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F41-3282-4921-BE78-B983FD05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AF4-FDA0-4C5C-B205-BF3334F2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3B6-009F-406A-A2AC-7EAF5DC7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D97-F232-4106-9284-3D5AD16F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020-5B81-482B-8FAB-71EEAA1D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26A-D8D8-4DCB-932A-32520F18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BCC-14C8-4A42-9492-766D1198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6B2-EAE2-4CEB-8B88-D697782E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B33-859B-4EF5-B6F1-C2697306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186-3950-4053-8128-55D924E5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D5A-1DB0-4E32-B130-A683247B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F8B-1347-40DD-86F7-CC8F8696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D87E-A5E0-4E7F-9968-60C754C30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tolaf.edu/committees/safety/SafetyHabit.jpg&amp;imgrefurl=http://www.stolaf.edu/committees/safety/&amp;usg=__4VkOrIW2vJSO2DeF6BePRfpZqUU=&amp;h=342&amp;w=492&amp;sz=47&amp;hl=en&amp;start=3&amp;tbnid=gsXnLePk469koM:&amp;tbnh=90&amp;tbnw=130&amp;prev=/images%3Fq%3DSAFETY%26gbv%3D2%26hl%3Den%26safe%3Dstric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685800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6248520"/>
            <a:ext cx="579132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We can still have fu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Just be safe about i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19320"/>
            <a:ext cx="56865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ndy"/>
              </a:rPr>
              <a:t>la sûreté vient d'abord dans 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9600" spc="-1" strike="noStrike">
                <a:solidFill>
                  <a:srgbClr val="000000"/>
                </a:solidFill>
                <a:latin typeface="Andy"/>
              </a:rPr>
              <a:t>théât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4:49:41Z</dcterms:created>
  <dc:creator> </dc:creator>
  <dc:description/>
  <dc:language>en-US</dc:language>
  <cp:lastModifiedBy> </cp:lastModifiedBy>
  <dcterms:modified xsi:type="dcterms:W3CDTF">2009-09-18T14:47:01Z</dcterms:modified>
  <cp:revision>2</cp:revision>
  <dc:subject/>
  <dc:title>Slide 1</dc:title>
</cp:coreProperties>
</file>